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39F-D4D3-4D27-9F78-72158C0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EB5-8150-44D9-9457-BCA2F77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B10-AF00-4535-B941-AFF3A638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1B1-C7BD-4C68-95D3-103AB7A1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E9C-9404-451A-B547-7CFE0B72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FBB-8180-4455-9359-515B10B0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3E1-CA4B-4E18-B854-D29C9D76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EFD-B03A-4054-A12D-7ADE2EC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3C5-B853-4DFB-A154-D50D1FC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0ED-F2E0-4D1C-8891-76FB1DF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7E0-2694-44D8-B6CC-6067EFF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2E0-CBA6-4CFE-81EF-00999B0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339-D518-40AB-9251-4754021C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bs.org/wgbh/nova/bees/hive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9200" y="3124080"/>
            <a:ext cx="576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lassroom 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52840" y="4724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112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800600"/>
            <a:ext cx="24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sy W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e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867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assify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00600" y="5029200"/>
            <a:ext cx="1676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486400"/>
            <a:ext cx="1676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029200"/>
            <a:ext cx="1641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486400"/>
            <a:ext cx="17524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486400"/>
            <a:ext cx="1711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572000"/>
            <a:ext cx="17524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0067 L -0.4 -0.32625 E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6 0.0289 L 0.1 -0.41503 E">
                                      <p:cBhvr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1549 L -0.04809 -0.32625 E">
                                      <p:cBhvr>
                                        <p:cTn id="11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178 L -0.12083 -0.30405 E">
                                      <p:cBhvr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0044 L 0.02309 -0.30405 E">
                                      <p:cBhvr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067 L 0.59583 -0.13757 E">
                                      <p:cBhvr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Exploring Perimeter a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ath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523880"/>
            <a:ext cx="8229600" cy="4907160"/>
            <a:chOff x="380880" y="1523880"/>
            <a:chExt cx="8229600" cy="49071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8229600" cy="49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380880" y="1523880"/>
              <a:ext cx="8229600" cy="490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reate Simple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533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37880" y="43434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6680" y="54100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rainstorming Animals in Different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350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137160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105520"/>
            <a:ext cx="679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imal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icture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code animal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mparing Presi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8229600" cy="4983120"/>
            <a:chOff x="609480" y="1295280"/>
            <a:chExt cx="8229600" cy="498312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09480" y="1295280"/>
              <a:ext cx="822960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609480" y="1295280"/>
              <a:ext cx="8229600" cy="498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Now and Long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0880" y="1371600"/>
            <a:ext cx="3124440" cy="552600"/>
            <a:chOff x="380880" y="1371600"/>
            <a:chExt cx="3124440" cy="5526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1244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380880" y="1371600"/>
              <a:ext cx="3124440" cy="5526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05320" y="144792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very useful softwa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440" y="2286000"/>
            <a:ext cx="806076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in computer lab/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priate for elementary gr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d Frien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le Group/Individual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ety of stud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5345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vailable for several area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K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360" y="331920"/>
            <a:ext cx="22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Uses in the Class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WL Ch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2971800" cy="2459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4280040"/>
            <a:ext cx="387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Idea/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Useful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89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828800"/>
            <a:ext cx="6400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ing Inter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 Hyper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red Word Process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374400">
            <a:off x="6552720" y="2437920"/>
            <a:ext cx="18288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okman Old Style"/>
              </a:rPr>
              <a:t>Other Fea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4214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60044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3434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949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7920" y="220968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9840" y="3152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520" y="1523520"/>
            <a:ext cx="30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362320" y="15998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9548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24080" y="1523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324120" y="1523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54100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Process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7840" y="21337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05740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678168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7280" y="287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Brainstorm Parts of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576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6211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pictures from menu bar or typ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638680"/>
            <a:ext cx="381240" cy="609840"/>
          </a:xfrm>
          <a:prstGeom prst="upArrow">
            <a:avLst>
              <a:gd name="adj1" fmla="val 50000"/>
              <a:gd name="adj2" fmla="val 39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822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y new dog is great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hen his cute tail wagged, we just had to take him home with us. We call him Hap because he is a happy dog. His tan fur is so pretty.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I love to pet hi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oft fur.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He is so big that my little brother rides on his back.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He gets very tired after he play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love everything about my dog, Hap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286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0796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295280"/>
            <a:ext cx="42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1080" y="15606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760" y="15238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opic Sentence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jor Detail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inor Det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3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534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22:19:58Z</dcterms:created>
  <dc:creator>Test</dc:creator>
  <dc:description/>
  <dc:language>en-US</dc:language>
  <cp:lastModifiedBy>Administrator</cp:lastModifiedBy>
  <dcterms:modified xsi:type="dcterms:W3CDTF">2009-05-21T13:18:49Z</dcterms:modified>
  <cp:revision>14</cp:revision>
  <dc:subject/>
  <dc:title>Slide 1</dc:title>
</cp:coreProperties>
</file>